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245-5EF6-4421-AF45-77BD9EA3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DED-CD7A-4F83-BDD9-771E398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56AFD-921D-49E8-A3C1-45268C1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F990E-E850-462F-B319-BE20F79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2EB97-4AD8-41C6-9DF7-A8B18435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B481C-2595-49D1-B9C3-5F68173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CB807-F05B-4E7C-83D0-01B5045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81A3F-918A-42E7-9264-1C32566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78989-79C2-4560-9129-8B174FF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30C99-D388-4AF6-B3E2-5C6771C6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3B88-81F9-4DA0-A1CF-CA5D3E11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698AF-808A-454E-BC00-3F2F6EEA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E7D-1F88-48CA-939D-49197128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18AB4-2841-4CFD-A2FA-7B4C477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348A5-89E9-4D62-B971-C05F11A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10FB-BB49-492A-A1A1-EAF4AF77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91758-FFCC-428D-B1A4-E070687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F08CF-55E7-44F7-A8B1-3E64C0A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3B70-BDCC-43F0-B83B-2AD8471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5047-DBE3-49C4-9B6F-4AAB1EA5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AF032-383C-4ACD-A27C-F864B67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0107-3873-4BEA-84D5-B5501C0C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83F7E-CF3B-4418-9D6B-A88FA8A7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1D1-100A-4188-AB94-B67E77B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92921-EBE5-4F81-8259-6FD27281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C651-611E-4CD9-BB72-A17EDCFA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9B80-736C-4F0F-943A-E481AB9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9159-57C3-4556-9F6F-BD20E02F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FAB2-CB62-48E3-9A22-405CF25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54631-1249-4B16-B692-070AD9ED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3239-103F-4D4A-8B2E-45603C5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04B1-E63D-468E-AC06-88F941A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D94D4-A298-4CF3-9FB3-5708A96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50A2-9BE7-48A3-A3D1-2DF0651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D86E-8BB3-4F9C-9622-C170A591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B2FFE-666D-4B6D-98B0-7D4F181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397C-5D3C-414B-A1D1-16C55937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9CF93-C806-4ED9-A92E-8C4AC4A3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9E8F9-C0A2-47D0-B235-E5611002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8883E-1806-41E6-90F2-AA0DA68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5F1BC-F32A-4F92-AD02-093D1ABB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F0B9D-FA0C-44F6-86B5-39EE354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87B1D-A756-4ED4-B5A2-E5442C72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9B8E4-8FDF-4682-84FE-2E832A5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AFF94-F135-4649-9526-FEEC910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0D0-DCA6-425F-B035-EDA47B36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370A8-DB7C-4873-A534-710826C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A6D96-5A23-4E24-B83D-5D7A6CD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75646-9875-468E-B4F2-18DF32F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5A1B1-AC87-46A0-96B3-1FDC0A83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F293-4643-4EF4-A3AD-4CBFE658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15585-92C1-4CE7-9629-6FE78D71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4853E-BC93-4E6F-A67A-62EBD974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F819A-C37D-4D49-BF52-33254C2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786BB-730E-439B-95EB-DBB21FF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AC784-F4E5-4007-8696-9A4FDE3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D7E-4AD5-47F0-8D6C-40213985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EE74D-7024-4A40-801B-C6C61AA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B0548-93DD-4ED4-A1FD-3B59ED5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CD8AF-A9CB-45B0-9CAB-C317DF3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9A3D8-FFE0-4E25-9E37-CCC94C41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F2FB8-4472-4158-AC16-3D756AC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088BF-2558-47F3-AA8D-DC0FDF7E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E2B25-F58B-4D34-91B5-45E6942B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381F4-4A3F-4FE0-994C-DE44457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2C173-4718-4793-B9B5-BC45455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E63C1-0240-437B-9345-A2875309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E5C-5C23-498E-894A-D70B89FC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A0020-EBF0-408B-832B-A72D8A5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F7BBA-1AEA-4C7C-BAB9-36175144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D7A60-A2CC-4FDF-B394-98FABE6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354A1-1FBB-45D8-911E-E666F38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15B70-7D60-4C93-B9AB-69AE897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CFBA1-8577-4735-B5E4-4EABABE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494A9-8982-44D7-B071-64E9C33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CA262-E82F-4657-80E9-C0904796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A09DB-D175-4054-9B60-930486AE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E66E8-31B7-4C64-B4F0-FE7BEC61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DDD-78E5-403A-8E5A-39420FA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DFDF2-CF76-472E-8E6B-56147D9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A9400-30BD-4C31-AF33-9FFDA58D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A7A8B-AF37-4656-B791-F0F57AF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7AED8-84FB-481D-9A90-54C11184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F58FA-4A85-433E-AAE8-5ADA31D3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5C876-EB84-4EA6-8E09-A840E20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2304A-78AC-4EF3-A9F5-5942768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1FE48-8EDC-48B8-B9BD-F959C38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15563-732E-48A5-BE7E-06DEDF7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17B0B-9286-451C-9D0C-4A615CD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2A43-C5AB-47D8-9F3A-BCE8EEF4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FEB9B-58F0-4221-8C03-F2949F4E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3BD96-EE84-4FBD-AE18-3AFB56A8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2EA25-973F-4A21-B777-6EE147A5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2D558-48CA-4264-B142-A2CDD53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55EB0-25DC-4C25-A13C-A70B84F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B08A9-B1B3-4DFC-8D49-FA1A2D7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A974C-DABA-49EF-A3DD-05E4BAE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13092-BA14-4274-BD61-07341FE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4C757-0DF8-4670-BE66-C0E7FD80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B90BA-5936-4B59-8F3B-94FFEFCE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A3E0-40BC-422B-AA8F-0691969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5CAC7-D55B-468E-84D1-7BCB581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E510C-62EA-45C2-8D45-C75980E4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739C9-4D23-4574-BD5D-1BC4EF0C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2CF8F-AA54-461C-A7F3-8D072434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7FD6C-B1AD-4B0D-8C74-400FFA5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ACF67-FE79-47B0-8D78-31FB961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63E90-474B-4EA5-8B3C-1E8786B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09622-83A1-42CA-A496-499DAB5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53C2A-6E8B-4797-9498-33E5101C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9C8F4-BA47-449E-B577-BBA537F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3FA-6B6D-4289-A2F5-0E0EC32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C606-3A9C-4543-9042-D9AA8C2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BA423-58FF-4AA5-BC2C-A05F71A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0A0D1-6AED-44F2-84E1-7956483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C6C77-751C-42C0-8D3E-AF1814B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DAC08-65C2-465E-B08C-D6FA2AB3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95CE2-02DB-4D51-95DB-5A724C0E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14C04-2BDE-4B9D-BC43-13E0CE51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6D52C-956B-4FD5-B40B-AD07CE14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4F27B-772E-4509-87FB-EE236C53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67DE9-BF55-4DB7-A10E-24A1E7C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42419-2AF3-4301-823B-8FEDECB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C080-A2EF-496A-85FB-6BD7F28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55E56-F346-4E51-BDE2-381B3499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DDC56-7A23-4ECF-9DAE-B343F02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5CAC3-744B-42BC-9A9C-B9AFB57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FBDE0-7F98-4574-AC55-30FD890F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B7036-8B61-4504-8B95-A2C2DA1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B98E1-E697-4A07-A3A7-1E98603E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AF9D2-1C4E-4ADA-A346-32B5DF15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C4A5B-9DD2-4356-81A8-8AC88539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55F12-D752-4693-839B-55D6A49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F97A2-E31E-4AA9-84D4-99B458E6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CC08-2FE6-44D6-AEDC-6304CA6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14FFB-7DAB-4F74-B8E9-32724B2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B39A3A-821E-4DB2-B700-1EF4370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DC740-8F5F-44DC-8CBB-33806BC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B6A06B-957F-48B7-989E-A675F59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0536C-3CD9-430D-A3C0-24072B1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74129-B573-420A-983C-41FD942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22897-BB20-414E-A598-03BC11E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363C2-1ABE-4951-AF43-B2CABE2E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F3FC5-961F-48D6-A9B6-C1D39468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4E686-7125-4800-AACA-606B8578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7AC-E550-4C96-9674-205B3B0F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C04B1-46C5-46BC-950F-680F16C3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56163-2B57-46CD-83C5-D62ECF5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CD0AA-F179-4F2A-A4F8-086600F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BA8BD-1389-4331-B936-F47916D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09CA6-90DF-425A-B1C8-C456550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6D270-767D-4EFE-806E-9AF3E7B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5FAF6-265B-4EF6-A94E-0266798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2BE51-4E7F-4AE3-89B9-7A518CF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40EC9-D334-4CBD-92E1-DED3F5A5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8B81A-5AAD-446F-B91B-3FC99166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BD7-881A-4FA1-B8D4-31A1A8D5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A515A-D9D6-4EFB-AACA-80D952A0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DC06E-A9B6-4ED7-A8D1-003A446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4DEC3-00F0-4153-A4BA-A3DE471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64E92-4881-48E5-B802-38429F4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E0384-A46D-4026-B6BD-A74231A8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62AC4-435B-479F-8E9D-CC82B76F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BDDC7-C3C0-4465-A61A-5579418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4C5DC-BD23-4FBA-B689-619BA36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76130-5162-4FEC-A555-F21D10D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CE2F8-D885-4EF5-969C-5545D9E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C765-A8F4-4756-AFBA-D6B25289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18112-61F5-4C81-9A2A-A76AEC2E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A314E-D54A-41D0-BAD4-BD8F35FB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66D74-03B6-4EE3-B086-A81C18B8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FB4B-4FEC-433E-B351-38C30EF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A863-DC03-419E-9F94-851C83AF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33C9-D973-41CE-986E-CB9CFA7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68B5-88E1-41A8-9749-3C2EDA9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C5B-ADA4-409C-B307-6B442EB8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B0CC-F996-4FB9-9847-D044FA15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4FA5-11C9-4F3E-84A5-713C72C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44A1-ED01-4A18-B8D7-02A0489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A786-F98F-43A1-83E5-E139DDC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D97A-EDA0-490B-A94C-DA6BC25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6BCC-442F-41F3-936E-67361AB6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8DB7-1A49-4A7D-B8B7-74A9FF0D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CD30-4030-49F2-BEAA-BF89AF18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C1C5F-F26D-4621-B8A7-B3836BC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351D-39B9-4935-8D2E-E5BE6F17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2DD-BC0B-479F-9EF8-A8A511A7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0E9A-A330-484C-814A-B0DD15E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780D-E120-4150-8494-D230708F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940F-6595-4ED2-96CE-ACEE9E2A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86B4-0B4A-4970-8ABE-B3D838F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76B1-F546-4814-A66D-B40076D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A51B-C6C5-41DE-88BA-2FCCCC6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4254-0463-4EA4-990F-FB17D29E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A5A0-4F32-44C7-9A99-B3ACAE25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FCB5-DD1A-414D-86E3-6958B92F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08A1D-B20A-4152-A5D6-692E4B51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A73-F972-4DFC-B800-3143F30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C9BF-0325-4FDA-B9C6-B27281A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94E4-5E7E-4834-A3E3-5177E94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CE94-0C2A-41D6-A081-7E97039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ABA7A-D931-49C9-A230-CE26F9FD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3FDA-3426-4385-AB03-50C291B8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B1B9-84C1-483B-9E49-EA6A042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67A0-F6BF-40B3-A5BC-634C097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2B08-050F-4F80-BB67-0766754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ACFC-9AB9-4992-9AE5-A0FEC5F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1F75-FB6B-4FF4-8D88-425A24B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051-EAA6-4DE3-B0F3-86D05D0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26B5-DD78-43CA-914F-7ED47786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48873-FA67-430F-985F-940765B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28341-0325-4279-9EDF-685AD44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FB59-4C10-4A12-9BEE-B3E38E2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CC28-88CC-469F-B3C8-1C603BA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42E4-F9B4-4474-8BF7-C520453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918D-11F4-4D79-9FA5-0B5E335F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D2E0-E23D-4843-A7C0-91149BDF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7EF2-43D6-4D94-8A04-D800558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2F8C2-B912-4520-BD60-F6266B9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AC1-BB8E-4370-86BD-D10D66E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185DD-0A7F-4736-A869-0915C1B2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8833-332B-4122-AB2C-3007D42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E0F8-10B1-4AE3-ADCA-75553772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88291-E650-478A-81E5-1813A6EF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1E2E-8F74-43D8-94C0-9FB05AE9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32A8-E4EE-4DBB-A3C7-640B186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872B5-457B-4467-B231-605F7223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B488A-478E-4270-9F15-FC02A5E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AD00-05B3-4EF1-BAF1-3C8CF79F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993F-59E4-4249-9F0E-67A3F5B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AC-034E-4EBF-8B01-25A023B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3BCB5-2FF3-41A1-BC7C-9AF27F5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B047-3F19-4BFB-939B-17EFFE5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6E92-BBCF-4DD1-A5DC-691F3031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89723-1C09-4C36-813F-B393107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DE5E-F0B4-4211-B1D6-5B3FB98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9BA3-931E-40EA-8382-CAC1676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B2D46-89E5-404C-A8B5-67125F0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6333-487B-4957-B9FA-5CB5E73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7D4C-6C74-4880-BB73-64AB3092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9388-403D-4F1A-9862-26E49D1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921-AAE1-42ED-96A1-E0DFC59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146AA-A85C-4D42-B551-D07AB39C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F6DB-8C6E-46A0-9F60-548AA6B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EA4D-E469-48E3-B751-4C661B9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E952-952D-4BDE-BD5B-F0D2794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43EB7-AFF5-41C2-A197-87189B1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9197-D26F-496D-8646-DE316A1D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BA51F-A95C-47C2-B85A-BA4A2EF5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7FA0E-A1FD-4CF2-99DB-B5FAE312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B78F-1613-4C01-9DB5-8282237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DAF8C-76EE-4D8D-8E5D-2239E58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813-9034-4C57-9960-9FEBCD8A4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EBD-B73C-4A77-A413-F9951F158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F8E1-292D-4108-9329-DC30F450B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8AA-1A1A-4BDA-BAF5-FAC8B8A4F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2C26-C08C-4590-B3DC-090A7DD4B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B041-E7EA-4384-AE56-165425788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AE6-5994-4553-8191-8104F7EE1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0330-03FF-49C9-9A8F-68E7E5EFA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B8FC-6C3E-4183-89B7-2AA162220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290-B0D3-4497-9A3F-55F670E19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503-03D0-439A-8F1D-ACA8374D8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A6CD-2D4C-41D6-A8C3-345807DCA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256D-3C2C-400B-9823-8B30EF5DE8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A62-EAB8-41EB-900A-B600B584A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392-A965-4E71-9ACC-07AEF3C59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EB93-3A1C-4700-99C7-591A4222B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474-E95C-4959-9D2C-3508FC5D6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4671-5777-4146-898C-714A7C4E1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5C61-AE83-4F04-9F55-6249A5F41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703-F56E-40B1-A5B1-B6A9F3744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C89A-934B-4A69-B713-1E93825D73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BA7E-9C19-4C93-ACA6-6FD1249B8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E0C0-2E3A-453B-8BA4-B0018768E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78AC-62F4-42E4-B535-DCB43F31F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B33-1B6C-4EF4-BB12-9C3DB0657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E76-A01C-43F0-BAB4-B0A8EE430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086-8D6D-4969-A825-E70ECECA6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2B0-7D7B-45A8-912B-0F84A6DD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DD0B-DB80-4AF5-A6F2-7556E460C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BBB-4A41-46F4-BEED-1C338FE48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35A1-172E-4C8D-BD0A-0A2E8F4A6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73C1-AA50-4405-9871-3294A9AB1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FEF-21FC-4F9C-92C4-FCE6A7861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58C-B59E-45B2-B59B-6548B176C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368-4ACF-489E-A195-AC3B79318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2A5C-4E16-4043-B5DE-67AA4779C9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BBA-7645-4A3E-95A4-1C21FAD31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58D0-6C84-4DCF-A180-02465332E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334-742F-4F7F-B5EE-7A1471563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8D74-D077-4883-B255-2F31184D91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95480" y="2971800"/>
            <a:ext cx="6953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61960" y="866880"/>
            <a:ext cx="8020080" cy="5848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49400" y="3552840"/>
            <a:ext cx="287280" cy="12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59120" y="4921200"/>
            <a:ext cx="288720" cy="122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49400" y="6278400"/>
            <a:ext cx="28728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1319040" y="2147760"/>
            <a:ext cx="6505920" cy="2562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2021040" y="2770200"/>
            <a:ext cx="287280" cy="123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3"/>
          <a:stretch/>
        </p:blipFill>
        <p:spPr>
          <a:xfrm>
            <a:off x="2011320" y="4129200"/>
            <a:ext cx="287280" cy="1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2428920" y="857160"/>
            <a:ext cx="4000320" cy="5977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2714760" y="1230480"/>
            <a:ext cx="36907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48520" cy="2333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1285920" y="328608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961920" y="1262160"/>
            <a:ext cx="7220160" cy="43336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2411280" y="315108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4356000" y="31622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6156360" y="315108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5"/>
          <a:stretch/>
        </p:blipFill>
        <p:spPr>
          <a:xfrm>
            <a:off x="2473200" y="40496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6"/>
          <a:stretch/>
        </p:blipFill>
        <p:spPr>
          <a:xfrm>
            <a:off x="4417920" y="40608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7"/>
          <a:stretch/>
        </p:blipFill>
        <p:spPr>
          <a:xfrm>
            <a:off x="6218280" y="40496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8"/>
          <a:stretch/>
        </p:blipFill>
        <p:spPr>
          <a:xfrm>
            <a:off x="2556000" y="493092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9"/>
          <a:stretch/>
        </p:blipFill>
        <p:spPr>
          <a:xfrm>
            <a:off x="4500720" y="4941720"/>
            <a:ext cx="1439640" cy="438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10"/>
          <a:stretch/>
        </p:blipFill>
        <p:spPr>
          <a:xfrm>
            <a:off x="6300720" y="493092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928800" y="708120"/>
            <a:ext cx="7657920" cy="61498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1224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3"/>
          <a:stretch/>
        </p:blipFill>
        <p:spPr>
          <a:xfrm>
            <a:off x="3564000" y="551664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4"/>
          <a:stretch/>
        </p:blipFill>
        <p:spPr>
          <a:xfrm>
            <a:off x="2627280" y="637056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1428840" y="749160"/>
            <a:ext cx="6610320" cy="6066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4140360" y="137160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3440160" y="336060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2484360" y="630396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3:5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